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283-5760-45AC-8A39-0135C3FA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7D3-DD93-4E87-922F-F635B3A6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11A-4C35-4851-8C80-CCB740EF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764-837D-4462-9B85-9FE7DF2A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DF-9FA1-4E93-A4EC-2080CBA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210-CD04-416A-A3AA-EEE64DC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0A5-F6C5-49A9-973C-C6349153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D1A-4E73-4D9A-8DD9-B0306FE2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6859-2AF3-41F3-ADB3-7A1969F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463-B507-48CD-A856-432C43E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ED4-C9C9-413F-ADD8-6ACFA055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77A-0F07-4479-81A5-BBB0BF88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59E6-4EEE-47B5-91DF-ACC3900C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6254640"/>
            <a:ext cx="748836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astellar"/>
              </a:rPr>
              <a:t>Vincent Lingiari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astellar"/>
              <a:ea typeface="Castellar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20522400">
            <a:off x="5292720" y="2060280"/>
            <a:ext cx="3095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19825200">
            <a:off x="5292720" y="4797360"/>
            <a:ext cx="3403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Rounded MT Bold"/>
              </a:rPr>
              <a:t>Vincent 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Rounded MT Bold"/>
              <a:ea typeface="Arial Rounded MT Bold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0280"/>
            <a:ext cx="7128000" cy="65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Elder of Gurindji tri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1966 led  group of aboriginals to the Wave Hill Walk of 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Pristi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Pristina"/>
              </a:rPr>
              <a:t>Successfully negotiated with the Australian government to get there share of their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Jensen, Michael, 1943- Vincent Lingiari at Wattie Creek [(Daguragu), Northern Territory] when they had water on tap, 1977 [picture]"/>
          <p:cNvPicPr/>
          <p:nvPr/>
        </p:nvPicPr>
        <p:blipFill>
          <a:blip r:embed="rId1"/>
          <a:stretch/>
        </p:blipFill>
        <p:spPr>
          <a:xfrm>
            <a:off x="1763640" y="76500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37372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Vincent and 200 aboriginals camped at Wattie Creek for 8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981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o quote Vincent Ling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They said, "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ndara"/>
              </a:rPr>
              <a:t>Hey! You're stealing another man's country." And I said, "Well, what was before Lord Vestey born and I born? It was blackfella country.</a:t>
            </a:r>
            <a:r>
              <a:rPr b="0" i="1" lang="en-US" sz="2000" spc="-1" strike="noStrike">
                <a:solidFill>
                  <a:srgbClr val="000000"/>
                </a:solidFill>
                <a:latin typeface="Candara"/>
              </a:rPr>
              <a:t>"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66160" cy="437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2692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picture shows a symbolic way of giving the people there land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0:03Z</dcterms:created>
  <dc:creator>Reservoir District Secondary College</dc:creator>
  <dc:description/>
  <dc:language>en-US</dc:language>
  <cp:lastModifiedBy>Reservoir District Secondary College</cp:lastModifiedBy>
  <dcterms:modified xsi:type="dcterms:W3CDTF">2008-07-17T02:44:52Z</dcterms:modified>
  <cp:revision>6</cp:revision>
  <dc:subject/>
  <dc:title>Slide 1</dc:title>
</cp:coreProperties>
</file>